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268-C7A5-425A-9D47-338E0739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766-DB9A-47CD-980F-76CA5D7C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108-0562-4AF9-A47F-031D7DB6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EBF-C407-4D76-8C0E-91B670A5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08F-D5FE-4B22-B10D-C47227B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B3F-2617-4700-AAD5-9BB8E5F4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1CC6-B443-4952-9D58-B3C39D7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748-D309-494B-B0ED-F2ABA841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B5F-CC32-48F8-826C-E1DFE00C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B873-6671-45CB-9337-CCD9605C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ED4-637E-4365-83DB-4924E664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0A8-0752-4100-A320-2AE5B060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9524-7203-4C46-9EA0-52AA3AA768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8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ppendicular Skelet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11740" t="6457" r="7503" b="7855"/>
          <a:stretch/>
        </p:blipFill>
        <p:spPr>
          <a:xfrm>
            <a:off x="123840" y="739800"/>
            <a:ext cx="4067280" cy="558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7608" t="1413" r="4354" b="7487"/>
          <a:stretch/>
        </p:blipFill>
        <p:spPr>
          <a:xfrm>
            <a:off x="4267080" y="457200"/>
            <a:ext cx="463068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"/>
          <p:cNvPicPr/>
          <p:nvPr/>
        </p:nvPicPr>
        <p:blipFill>
          <a:blip r:embed="rId1"/>
          <a:srcRect l="14222" t="11453" r="9214" b="13071"/>
          <a:stretch/>
        </p:blipFill>
        <p:spPr>
          <a:xfrm>
            <a:off x="2209680" y="685800"/>
            <a:ext cx="47246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rcRect l="19533" t="15185" r="15062" b="16545"/>
          <a:stretch/>
        </p:blipFill>
        <p:spPr>
          <a:xfrm>
            <a:off x="1981080" y="304920"/>
            <a:ext cx="43434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rcRect l="14105" t="17547" r="10295" b="18263"/>
          <a:stretch/>
        </p:blipFill>
        <p:spPr>
          <a:xfrm>
            <a:off x="1905120" y="609480"/>
            <a:ext cx="56386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rcRect l="1704" t="25635" r="1704" b="21806"/>
          <a:stretch/>
        </p:blipFill>
        <p:spPr>
          <a:xfrm>
            <a:off x="228600" y="1219320"/>
            <a:ext cx="8618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rcRect l="24271" t="11530" r="23274" b="11999"/>
          <a:stretch/>
        </p:blipFill>
        <p:spPr>
          <a:xfrm>
            <a:off x="206280" y="1371600"/>
            <a:ext cx="3932280" cy="441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14598" t="9751" r="13505" b="9720"/>
          <a:stretch/>
        </p:blipFill>
        <p:spPr>
          <a:xfrm>
            <a:off x="4495680" y="1523880"/>
            <a:ext cx="4648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rcRect l="2028" t="14148" r="2176" b="11307"/>
          <a:stretch/>
        </p:blipFill>
        <p:spPr>
          <a:xfrm>
            <a:off x="380880" y="1447920"/>
            <a:ext cx="80359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rcRect l="2167" t="14698" r="2014" b="11573"/>
          <a:stretch/>
        </p:blipFill>
        <p:spPr>
          <a:xfrm>
            <a:off x="609480" y="1371600"/>
            <a:ext cx="81756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rcRect l="2109" t="23189" r="60721" b="22967"/>
          <a:stretch/>
        </p:blipFill>
        <p:spPr>
          <a:xfrm>
            <a:off x="1905120" y="1066680"/>
            <a:ext cx="5172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39284" t="22442" r="2472" b="20027"/>
          <a:stretch/>
        </p:blipFill>
        <p:spPr>
          <a:xfrm>
            <a:off x="838080" y="1219320"/>
            <a:ext cx="727236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rcRect l="6819" t="18589" r="55274" b="13769"/>
          <a:stretch/>
        </p:blipFill>
        <p:spPr>
          <a:xfrm>
            <a:off x="1600200" y="758880"/>
            <a:ext cx="594360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rcRect l="37276" t="18624" r="34251" b="12743"/>
          <a:stretch/>
        </p:blipFill>
        <p:spPr>
          <a:xfrm>
            <a:off x="2819520" y="609480"/>
            <a:ext cx="3232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rcRect l="19545" t="6056" r="14457" b="7087"/>
          <a:stretch/>
        </p:blipFill>
        <p:spPr>
          <a:xfrm>
            <a:off x="2057400" y="990720"/>
            <a:ext cx="46483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6447" t="15094" r="2439" b="16951"/>
          <a:stretch/>
        </p:blipFill>
        <p:spPr>
          <a:xfrm>
            <a:off x="990720" y="533520"/>
            <a:ext cx="586080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2014" t="13771" r="2167" b="11400"/>
          <a:stretch/>
        </p:blipFill>
        <p:spPr>
          <a:xfrm>
            <a:off x="0" y="609480"/>
            <a:ext cx="85899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228600" y="1371600"/>
            <a:ext cx="83818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9:35:11Z</dcterms:created>
  <dc:creator>aj07537</dc:creator>
  <dc:description/>
  <dc:language>en-US</dc:language>
  <cp:lastModifiedBy>aj07537</cp:lastModifiedBy>
  <dcterms:modified xsi:type="dcterms:W3CDTF">2010-03-08T20:00:01Z</dcterms:modified>
  <cp:revision>3</cp:revision>
  <dc:subject/>
  <dc:title>Slide 1</dc:title>
</cp:coreProperties>
</file>